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FD2-E34A-47C1-A9E1-7448907B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E4E-7117-4903-B72B-85445505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100-9F36-4752-8C09-50D0F013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68A-A5E6-4B78-8C4A-E8AE52EB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E33-F6A4-4E1A-8AA4-4B6CC142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B21B-C8A5-4A1C-9313-F03CDE22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1419-9F2F-4ECE-B1F6-6FD1DD7F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5CC6-1038-4A00-84CD-F6799206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9A2-739E-4A1B-9FEA-D9A2A39B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AD2C-BE81-400E-9CB1-6C9AB6C5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70A4-82CB-44E2-8A4A-4F40253A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43F-9DA6-4762-BCCD-791DD263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7535-6BA6-4DA0-B22F-7089043B8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h 1, Clinton, Bush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H.W. Bu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ll Clin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W. Bu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56:13Z</dcterms:created>
  <dc:creator>School District U46</dc:creator>
  <dc:description/>
  <dc:language>en-US</dc:language>
  <cp:lastModifiedBy>School District U46</cp:lastModifiedBy>
  <dcterms:modified xsi:type="dcterms:W3CDTF">2010-05-25T11:56:19Z</dcterms:modified>
  <cp:revision>1</cp:revision>
  <dc:subject/>
  <dc:title>Domestic Policies</dc:title>
</cp:coreProperties>
</file>